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B1C-487C-472C-ACFC-8C28CAF3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15B-1E0D-4DB9-9BF0-78626E77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AA7-80D8-4A04-8E04-4FFA75F8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022-DBA6-485C-931E-AB45F894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C34F-6A0D-4D67-BB6B-7E634559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F5A6-5B18-4550-9C37-4B6E8008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0385-D360-4AD2-9A5B-E9FEA5EF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D77A-FDA7-4E6F-BF1F-1318AF43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7937-5E15-4450-A40E-97361622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58840"/>
            <a:ext cx="83822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83AB-DFE3-4A2A-B179-798086AC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0486-6C29-497C-AD4E-06BB475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6A2-84F1-4168-A662-E712BD1F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7503-6F1F-438B-931F-296D61E0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DABF-DE5D-4A69-96AB-C804FF6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1064-5C85-4FC8-AB5F-59857BD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8C1B-8C66-42C7-A265-AFE239D3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6765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2480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02BB-A47F-437B-B9F9-674E1041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472-13E8-47F6-856D-EA374B97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A9F-FF62-4477-8D27-F1666623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13D-AF78-4EE8-8AAB-24017586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8840"/>
            <a:ext cx="83822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CB2-2467-4D0A-B6CA-497E0FC1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AC7-F357-4DB0-BA7E-B5BF43FE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CE0-B368-4582-B8C9-132A27E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2480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F3F-303E-4BF6-BB89-4EEF1062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37f5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37f5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43F9-227C-4094-AC47-CABB491BBD0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8840"/>
            <a:ext cx="83822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b6a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eb6a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37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7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37f5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37f5b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37f5b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37f5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AE56-6E2C-4595-8694-8D9036F46810}" type="slidenum">
              <a:rPr b="0" lang="ar-SA" sz="1000" spc="-1" strike="noStrike">
                <a:solidFill>
                  <a:srgbClr val="f37f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مستطيل 2" descr=""/>
          <p:cNvPicPr/>
          <p:nvPr/>
        </p:nvPicPr>
        <p:blipFill>
          <a:blip r:embed="rId1"/>
          <a:stretch/>
        </p:blipFill>
        <p:spPr>
          <a:xfrm>
            <a:off x="1847880" y="1292400"/>
            <a:ext cx="5192640" cy="10490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6" descr=""/>
          <p:cNvPicPr/>
          <p:nvPr/>
        </p:nvPicPr>
        <p:blipFill>
          <a:blip r:embed="rId2"/>
          <a:stretch/>
        </p:blipFill>
        <p:spPr>
          <a:xfrm>
            <a:off x="1504800" y="2378160"/>
            <a:ext cx="6280200" cy="4486320"/>
          </a:xfrm>
          <a:prstGeom prst="rect">
            <a:avLst/>
          </a:prstGeom>
          <a:ln w="0">
            <a:noFill/>
          </a:ln>
        </p:spPr>
      </p:pic>
      <p:pic>
        <p:nvPicPr>
          <p:cNvPr id="84" name="اهات حلو.mp3" descr=""/>
          <p:cNvPicPr/>
          <p:nvPr/>
        </p:nvPicPr>
        <p:blipFill>
          <a:blip r:embed="rId3"/>
          <a:stretch/>
        </p:blipFill>
        <p:spPr>
          <a:xfrm>
            <a:off x="990720" y="55627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1195560" y="-237960"/>
            <a:ext cx="69055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1000080" y="1292400"/>
            <a:ext cx="7083360" cy="4638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1047600" y="987480"/>
            <a:ext cx="71391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3" descr=""/>
          <p:cNvPicPr/>
          <p:nvPr/>
        </p:nvPicPr>
        <p:blipFill>
          <a:blip r:embed="rId1"/>
          <a:stretch/>
        </p:blipFill>
        <p:spPr>
          <a:xfrm>
            <a:off x="1579680" y="1212840"/>
            <a:ext cx="58942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1047600" y="1822320"/>
            <a:ext cx="71154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19" descr=""/>
          <p:cNvPicPr/>
          <p:nvPr/>
        </p:nvPicPr>
        <p:blipFill>
          <a:blip r:embed="rId1"/>
          <a:stretch/>
        </p:blipFill>
        <p:spPr>
          <a:xfrm>
            <a:off x="2109960" y="1060560"/>
            <a:ext cx="49194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1:43:45Z</dcterms:created>
  <dc:creator>user</dc:creator>
  <dc:description/>
  <dc:language>en-US</dc:language>
  <cp:lastModifiedBy>لا تنس ذكر الله</cp:lastModifiedBy>
  <dcterms:modified xsi:type="dcterms:W3CDTF">2010-10-23T22:23:23Z</dcterms:modified>
  <cp:revision>222</cp:revision>
  <dc:subject/>
  <dc:title>الشريحة 1</dc:title>
</cp:coreProperties>
</file>